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57849-BEE5-415A-9445-20530FCA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48651-4428-49B6-A472-CB5427FB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387CE-FC3E-4E40-AB95-B5061D27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92164-3AA3-4D9F-B5AF-2F2E3B9A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9C819-DEB3-44B5-8B67-DC0F5AA9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A1856-F981-4586-8299-08C48DB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CFCD0-1AE5-459B-A779-D3AA063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BF1B-9261-4126-9B65-FA67A4B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616B7-4D09-4F7B-9047-21FE665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7E24-6AF1-4EB4-BFC5-1C0B8D8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7EDBC-B63C-4B64-AC98-59333515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7705E-9B5C-4E4C-9E05-3F8EDA5D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52C-92E5-4E7B-82E9-46ECE98001E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D89-AF10-41BB-A081-58443FDC103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43F-3F94-4BA6-BDE7-61D91FDEDD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ктический опыт построения ИС масштаба предприятия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 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A1FEFA-48DE-42DE-BD6D-FCEDBB6FFB7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ыбор информационной систем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ля чего мы выбира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лько нужно выбира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оимость проек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ое в выбор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3C6B8-17D7-4E7A-B79A-DC759C6107D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Акценты производителе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ухгалтерско-финансовые сист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66FCF-F1D5-435F-B3D5-67F2F61EDF08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 - факторы успех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интересованность первых ли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держка информационных отде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несенные тр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3ED4E-C89A-4626-ADD3-0CBEC625DD52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чего начина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мейте решимость вовремя остановить специалис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ботирование: крайности позиций сотрудни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ублирование информ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54E86-142E-43ED-BB8A-CF33228CD60B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Главный итог внедрения ИС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ля управленческого уче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оступной напрямую руководителям для принятия ре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гулярный менеджмент - регулярный контроль ключевых параметр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0D8E3-442B-4FDD-8F59-A734F9026F61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опрос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сист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agarkov@kamkabel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лефон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422) 195-1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AB307-A1AC-4B51-80FA-BEA88814AD44}" type="datetime1">
              <a:rPr lang="en-US"/>
              <a:t>07/30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7:17:27Z</dcterms:created>
  <dc:creator>Агарков А.И.</dc:creator>
  <dc:description/>
  <dc:language>en-US</dc:language>
  <cp:lastModifiedBy>Агарков А.И.</cp:lastModifiedBy>
  <dcterms:modified xsi:type="dcterms:W3CDTF">2002-12-02T12:43:38Z</dcterms:modified>
  <cp:revision>4</cp:revision>
  <dc:subject/>
  <dc:title>Место заголовка</dc:title>
</cp:coreProperties>
</file>